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285A4-E419-453E-8A71-A4E9C25D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12CC5-4174-425E-AA75-1C253B68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09B5C-7607-470A-9C7F-A757942A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CD780-9476-4DCD-BF9B-467B274F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6EB96-2A1C-4FDD-8691-0F9DF367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D142F-9C90-48AA-A44E-674CF5B4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128D5-5588-4BE4-A5F5-4F206ED1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187FD-76D1-4DB6-A41C-339FC589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14B0A-F254-4C42-8B34-69E7E677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36E9D-AA4C-4F9F-8540-23A830AC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E5A39-EEFB-48CE-8484-1EBC46A8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0F5B1-C18A-4810-B6E9-B23D24CF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907D8-C71A-43A4-AEC7-1723E5F9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0EF3D-250D-4673-ABC1-A552ABCF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A88A5-C49E-42E9-B2A8-9DB69D74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4D9DA-4C0B-4EDB-8A24-F43859AF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01673-7BD9-4AB9-87BE-056BB20B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7A825-5155-400E-9F91-8121AC77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8BF23-1FD2-4454-81FA-FCAA9D44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971B6-EE6D-4B76-B1E8-699E9A5B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465E2-9328-401A-9AEF-1554B9D2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0B4CC-5D3A-4D4C-A277-8D152866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EB457-25E6-43C4-BCF4-26E3CAE5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0DC1B-3304-433C-8BEB-B4894671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0950D-0CFB-46B9-B54B-011A49A8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D9B0A-74B8-4733-8874-9457EB9C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861A6-0955-41F7-A8D0-094B8DBE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BCC80-6B2A-4905-B071-C6C5B16C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2D6B3-7018-49E3-9565-3450CC76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A8AFB-C137-4A00-93D8-FC4BEBB9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5D36-FEAA-4D17-B2A4-68ECA32D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74CBB-5186-4F53-9CDB-DDF7D5F2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A0CA3-08AD-4F9F-A787-A80463FB1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BE777-CF4B-4FFD-844E-D6F8501C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0FFE1-3034-4EAE-BB3D-C6F5EDD6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E456C-3132-4D3B-9291-92D55FC4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5DC85-A2AD-4533-9A91-C12BACB6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C5FEB-2F57-4005-A572-B690EA53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C022D-E3B6-4EA1-9973-D9DEF857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F69AE-AA27-4153-A2B9-4F0337F1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FA04F-49CE-4C59-B7B5-632F6495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AF0D-93F5-41D7-980D-D502721E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71204-6BF9-4244-B008-52D8968D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48333-7CE0-4CA2-A534-76DB342B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082A1-F8F3-4E66-AC75-4DA836A2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98D1C-8C72-4C64-A01F-554F0C29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2CA4D-A079-46FF-8984-AE1C1567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5E12-21CB-4022-A4C8-0024DF1E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3A78-1FDA-4184-9450-C3B64A2A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368A-DB59-4889-8FD6-2CF7F41A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92EB-0547-4F4A-8EE4-38FD3A5F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B164-18FE-47EF-94C9-7E78611B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8F5C-157D-46C7-BD33-3BF18D7F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426B-370A-4C05-85C5-C921115A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936B-AB2F-45AD-B1DB-3A6B26C0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08D0-5350-4FCC-8400-C380E8C1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DC81-DF71-4DED-8351-1E008030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27F7-E85A-4C2C-9EAA-A56C6A90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B775-F533-4F31-BF23-3809A047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7711-CE9F-4F33-B233-E5565C1A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1A92-C480-4686-8F73-8CBE41C5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A9B5-DAB4-40D3-BC3E-ED41DF19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EF89-262D-4212-9730-9A98FE24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0CF6-36E2-4F6D-A7F6-7AECDABD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BD9F-E5C8-4569-9583-0AC444DF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304E-90D1-4903-BB97-FA5B376A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6ECE-0A22-4E4C-B180-734C905D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E25E-E24E-455D-83B9-D7EE0C65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0670-E2A4-4AC4-90E7-DABAFE14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99F10-358D-4088-9C04-9C49FA1E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B14F0-033A-4925-981D-5598E238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74C65-E568-419B-ADD9-4FCD11B8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60FC5-9CE5-4795-8ADE-E8C98F7B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B245C-D469-4C2B-93F1-6E002175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42C8E-DFC0-4929-9C83-F617DC02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2FE6F-9304-4550-A124-A4E29200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C1AAD-ED0F-4ED7-800B-9ADBB455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47690-EC2C-45FF-880A-B9A2D436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68839-9104-4B66-8559-184CF302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A940A-6DE7-4A84-AF08-F074469D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C9886-CD78-4272-A3FF-E87CE350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F01D7-63D7-4007-BCF1-F37A6FDE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C55AA-4497-415E-A5C8-616C2263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AED05-B881-4B05-BFBE-E80E56FF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E2B2F-F295-4ABC-9D0A-8781CFFC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AF3A9-2082-479A-A946-E8DE3B96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CC9CC-14F8-4C8C-9F73-20EB091D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C977A-4910-4145-A2E9-A9F8F8E2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F0076-E488-4076-B11F-8F47FED9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ECF87-AE7D-48EA-A936-DBD793DB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C785E-9738-4C2A-BB17-84CAA4EC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FFEDF-88E1-4799-AF9B-453FD494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578F2-5EA2-4A52-AC69-F728BC00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BB998-C333-432E-A4A2-C4A6C879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80021-9905-4A3E-B13C-9DFC593C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E1206-4FAF-43D9-97E3-01989F41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81446-CD87-4998-94C5-9F73CBCD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B1DEC-05B0-4C33-9BA7-D62D62A3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3FF10-C1C8-4063-A88D-BF7D08B9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6EFFC-A584-4AA8-A3FB-D46503B3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6A3CF-4C4B-4FA7-9D2A-69D82BCF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77DD0-8AAF-44ED-B8C7-0E5BDBF1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13007-EE3A-4B22-8B59-7F4B42C0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A6541-EE50-48D0-87F1-1A651D48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E2EF8-5CCC-4869-B09D-64C69D6E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C5C63-A1BA-49D6-90DD-79552842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F6CB2-503B-48DF-8AB1-56937FCC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0B97C-2EEF-464C-AA63-DA413033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F1FAD-7E92-487E-91DB-988EFA76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6B2D6-3F47-4E65-B011-3A42E5E6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D2660-58BD-4B26-AA26-E0FF15C3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AC61F-4031-465F-B480-3CA806FA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15568-3E71-49E3-AFEC-FF7117DD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36123-6BF4-4472-9111-B2FCACCA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7B331-C8D5-4F21-B691-66899317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A3A73-79A3-4D63-94A2-5B675157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94624-D40E-43D6-903C-702F3084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41697-A447-425C-9949-6DB47984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0C6C0-087B-4E62-9F4F-F573C4E8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A1110-3CD5-4308-B966-9815659D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A3EE3-82F7-40A7-9A93-CE483C82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BF0F8-6AA5-491A-8C74-EDFF5E7C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2497D-7500-4442-A3D5-DD72A5CA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61E45-B8B0-47DB-A2FC-F1A2177D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FC573-2317-4D69-AF8D-464F2257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D08DF-16EA-4911-8D7F-79AD4E50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108E3-C7AB-44BD-9E04-6E1E9B24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E5AA0-E4DE-4375-B717-F586A33B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2BF22-609E-479F-9C25-53BC0B31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E3BFF-72AD-4BF8-B345-78E58493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5E882-5D69-4142-9A20-C2E5F63C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8225E-CB3B-46D7-AC60-D8599305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5849-610C-4FA0-A68E-B2B29D6FA7E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3F30-F2FB-4B85-8617-36DE0D50291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B0A1-4A88-41F1-A06C-ECF5F9F617C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6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79B3-51D5-4DD5-B3DD-E10F5B0BDDB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026C-7748-47D2-9391-C0494644B99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164B-B3AB-4357-B4AA-9895DE337FC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C2AE-DCC7-4B05-A200-56713DE7A81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9063-87DC-4EDE-A87B-2D6BFC7B774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419F-E391-4DED-A4DA-E60930749C4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61E2-1BA9-4DD3-948A-AD5A90F82A0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A5EE-3C7A-4FBF-99A8-BEB23154FF8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jpe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5.jpe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2.png"/><Relationship Id="rId28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jpe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5.jpe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13.jpeg"/><Relationship Id="rId26" Type="http://schemas.openxmlformats.org/officeDocument/2006/relationships/image" Target="../media/image14.png"/><Relationship Id="rId27" Type="http://schemas.openxmlformats.org/officeDocument/2006/relationships/image" Target="../media/image15.jpeg"/><Relationship Id="rId28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63440" y="1447920"/>
            <a:ext cx="8801280" cy="25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m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flatoxin mitigation to improve nutrition, safety and market competitive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5" name="Group 2"/>
          <p:cNvGrpSpPr/>
          <p:nvPr/>
        </p:nvGrpSpPr>
        <p:grpSpPr>
          <a:xfrm>
            <a:off x="16622640" y="41844960"/>
            <a:ext cx="1981440" cy="2111040"/>
            <a:chOff x="16622640" y="41844960"/>
            <a:chExt cx="1981440" cy="2111040"/>
          </a:xfrm>
        </p:grpSpPr>
        <p:pic>
          <p:nvPicPr>
            <p:cNvPr id="566" name="Picture 7" descr="\\nas\mmu\1Publishing_service\Logos\CGIAR logo\cgiar.tif"/>
            <p:cNvPicPr/>
            <p:nvPr/>
          </p:nvPicPr>
          <p:blipFill>
            <a:blip r:embed="rId1"/>
            <a:stretch/>
          </p:blipFill>
          <p:spPr>
            <a:xfrm>
              <a:off x="16622640" y="41844960"/>
              <a:ext cx="190656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Box 4"/>
            <p:cNvSpPr/>
            <p:nvPr/>
          </p:nvSpPr>
          <p:spPr>
            <a:xfrm>
              <a:off x="16788960" y="43313400"/>
              <a:ext cx="181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8" name="Picture 5" descr=""/>
          <p:cNvPicPr/>
          <p:nvPr/>
        </p:nvPicPr>
        <p:blipFill>
          <a:blip r:embed="rId2"/>
          <a:stretch/>
        </p:blipFill>
        <p:spPr>
          <a:xfrm>
            <a:off x="9764640" y="418338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"/>
          <p:cNvPicPr/>
          <p:nvPr/>
        </p:nvPicPr>
        <p:blipFill>
          <a:blip r:embed="rId3"/>
          <a:stretch/>
        </p:blipFill>
        <p:spPr>
          <a:xfrm>
            <a:off x="11160" y="42291000"/>
            <a:ext cx="7724880" cy="10825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4"/>
          <a:stretch/>
        </p:blipFill>
        <p:spPr>
          <a:xfrm>
            <a:off x="11822040" y="4183380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" descr="E:\zReturn to desktop\ICRAF logo.png"/>
          <p:cNvPicPr/>
          <p:nvPr/>
        </p:nvPicPr>
        <p:blipFill>
          <a:blip r:embed="rId5"/>
          <a:stretch/>
        </p:blipFill>
        <p:spPr>
          <a:xfrm>
            <a:off x="7478640" y="41910120"/>
            <a:ext cx="2347920" cy="1904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"/>
          <p:cNvPicPr/>
          <p:nvPr/>
        </p:nvPicPr>
        <p:blipFill>
          <a:blip r:embed="rId6"/>
          <a:stretch/>
        </p:blipFill>
        <p:spPr>
          <a:xfrm>
            <a:off x="13955760" y="41757480"/>
            <a:ext cx="2424240" cy="17067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0" descr=""/>
          <p:cNvPicPr/>
          <p:nvPr/>
        </p:nvPicPr>
        <p:blipFill>
          <a:blip r:embed="rId7"/>
          <a:srcRect l="26735" t="0" r="33523" b="0"/>
          <a:stretch/>
        </p:blipFill>
        <p:spPr>
          <a:xfrm>
            <a:off x="18668880" y="42305400"/>
            <a:ext cx="4622760" cy="12808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1" descr=""/>
          <p:cNvPicPr/>
          <p:nvPr/>
        </p:nvPicPr>
        <p:blipFill>
          <a:blip r:embed="rId8"/>
          <a:srcRect l="74543" t="0" r="0" b="0"/>
          <a:stretch/>
        </p:blipFill>
        <p:spPr>
          <a:xfrm>
            <a:off x="23317200" y="42367320"/>
            <a:ext cx="2819520" cy="1218960"/>
          </a:xfrm>
          <a:prstGeom prst="rect">
            <a:avLst/>
          </a:prstGeom>
          <a:ln w="0">
            <a:noFill/>
          </a:ln>
        </p:spPr>
      </p:pic>
      <p:grpSp>
        <p:nvGrpSpPr>
          <p:cNvPr id="575" name="Group 12"/>
          <p:cNvGrpSpPr/>
          <p:nvPr/>
        </p:nvGrpSpPr>
        <p:grpSpPr>
          <a:xfrm>
            <a:off x="16775280" y="41997240"/>
            <a:ext cx="1981080" cy="2111040"/>
            <a:chOff x="16775280" y="41997240"/>
            <a:chExt cx="1981080" cy="2111040"/>
          </a:xfrm>
        </p:grpSpPr>
        <p:pic>
          <p:nvPicPr>
            <p:cNvPr id="576" name="Picture 7" descr="\\nas\mmu\1Publishing_service\Logos\CGIAR logo\cgiar.tif"/>
            <p:cNvPicPr/>
            <p:nvPr/>
          </p:nvPicPr>
          <p:blipFill>
            <a:blip r:embed="rId9"/>
            <a:stretch/>
          </p:blipFill>
          <p:spPr>
            <a:xfrm>
              <a:off x="16775280" y="41997240"/>
              <a:ext cx="190620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Box 14"/>
            <p:cNvSpPr/>
            <p:nvPr/>
          </p:nvSpPr>
          <p:spPr>
            <a:xfrm>
              <a:off x="16941600" y="43465680"/>
              <a:ext cx="18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8" name="Picture 15" descr=""/>
          <p:cNvPicPr/>
          <p:nvPr/>
        </p:nvPicPr>
        <p:blipFill>
          <a:blip r:embed="rId10"/>
          <a:stretch/>
        </p:blipFill>
        <p:spPr>
          <a:xfrm>
            <a:off x="9917280" y="419860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6" descr=""/>
          <p:cNvPicPr/>
          <p:nvPr/>
        </p:nvPicPr>
        <p:blipFill>
          <a:blip r:embed="rId11"/>
          <a:stretch/>
        </p:blipFill>
        <p:spPr>
          <a:xfrm>
            <a:off x="163440" y="42443280"/>
            <a:ext cx="7724880" cy="10828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6" descr=""/>
          <p:cNvPicPr/>
          <p:nvPr/>
        </p:nvPicPr>
        <p:blipFill>
          <a:blip r:embed="rId12"/>
          <a:stretch/>
        </p:blipFill>
        <p:spPr>
          <a:xfrm>
            <a:off x="11974680" y="4198608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" descr="E:\zReturn to desktop\ICRAF logo.png"/>
          <p:cNvPicPr/>
          <p:nvPr/>
        </p:nvPicPr>
        <p:blipFill>
          <a:blip r:embed="rId13"/>
          <a:stretch/>
        </p:blipFill>
        <p:spPr>
          <a:xfrm>
            <a:off x="7631280" y="42062400"/>
            <a:ext cx="2347920" cy="19051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9" descr=""/>
          <p:cNvPicPr/>
          <p:nvPr/>
        </p:nvPicPr>
        <p:blipFill>
          <a:blip r:embed="rId14"/>
          <a:stretch/>
        </p:blipFill>
        <p:spPr>
          <a:xfrm>
            <a:off x="14108040" y="41910120"/>
            <a:ext cx="2424240" cy="17064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0" descr=""/>
          <p:cNvPicPr/>
          <p:nvPr/>
        </p:nvPicPr>
        <p:blipFill>
          <a:blip r:embed="rId15"/>
          <a:srcRect l="26735" t="0" r="33523" b="0"/>
          <a:stretch/>
        </p:blipFill>
        <p:spPr>
          <a:xfrm>
            <a:off x="18821520" y="42457680"/>
            <a:ext cx="4622760" cy="12812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1" descr=""/>
          <p:cNvPicPr/>
          <p:nvPr/>
        </p:nvPicPr>
        <p:blipFill>
          <a:blip r:embed="rId16"/>
          <a:srcRect l="74543" t="0" r="0" b="0"/>
          <a:stretch/>
        </p:blipFill>
        <p:spPr>
          <a:xfrm>
            <a:off x="23469480" y="42519600"/>
            <a:ext cx="28195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22"/>
          <p:cNvGrpSpPr/>
          <p:nvPr/>
        </p:nvGrpSpPr>
        <p:grpSpPr>
          <a:xfrm>
            <a:off x="16927560" y="42149880"/>
            <a:ext cx="1981080" cy="2111040"/>
            <a:chOff x="16927560" y="42149880"/>
            <a:chExt cx="1981080" cy="2111040"/>
          </a:xfrm>
        </p:grpSpPr>
        <p:pic>
          <p:nvPicPr>
            <p:cNvPr id="586" name="Picture 7" descr="\\nas\mmu\1Publishing_service\Logos\CGIAR logo\cgiar.tif"/>
            <p:cNvPicPr/>
            <p:nvPr/>
          </p:nvPicPr>
          <p:blipFill>
            <a:blip r:embed="rId17"/>
            <a:stretch/>
          </p:blipFill>
          <p:spPr>
            <a:xfrm>
              <a:off x="16927560" y="42149880"/>
              <a:ext cx="190620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TextBox 24"/>
            <p:cNvSpPr/>
            <p:nvPr/>
          </p:nvSpPr>
          <p:spPr>
            <a:xfrm>
              <a:off x="17093880" y="43618320"/>
              <a:ext cx="18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8" name="Picture 25" descr=""/>
          <p:cNvPicPr/>
          <p:nvPr/>
        </p:nvPicPr>
        <p:blipFill>
          <a:blip r:embed="rId18"/>
          <a:stretch/>
        </p:blipFill>
        <p:spPr>
          <a:xfrm>
            <a:off x="10069560" y="42138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26" descr=""/>
          <p:cNvPicPr/>
          <p:nvPr/>
        </p:nvPicPr>
        <p:blipFill>
          <a:blip r:embed="rId19"/>
          <a:stretch/>
        </p:blipFill>
        <p:spPr>
          <a:xfrm>
            <a:off x="316080" y="42595920"/>
            <a:ext cx="7724520" cy="10825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6" descr=""/>
          <p:cNvPicPr/>
          <p:nvPr/>
        </p:nvPicPr>
        <p:blipFill>
          <a:blip r:embed="rId20"/>
          <a:stretch/>
        </p:blipFill>
        <p:spPr>
          <a:xfrm>
            <a:off x="12126960" y="4213872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E:\zReturn to desktop\ICRAF logo.png"/>
          <p:cNvPicPr/>
          <p:nvPr/>
        </p:nvPicPr>
        <p:blipFill>
          <a:blip r:embed="rId21"/>
          <a:stretch/>
        </p:blipFill>
        <p:spPr>
          <a:xfrm>
            <a:off x="7783560" y="42214680"/>
            <a:ext cx="2347920" cy="19051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9" descr=""/>
          <p:cNvPicPr/>
          <p:nvPr/>
        </p:nvPicPr>
        <p:blipFill>
          <a:blip r:embed="rId22"/>
          <a:stretch/>
        </p:blipFill>
        <p:spPr>
          <a:xfrm>
            <a:off x="14260680" y="42062400"/>
            <a:ext cx="2423880" cy="17064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0" descr=""/>
          <p:cNvPicPr/>
          <p:nvPr/>
        </p:nvPicPr>
        <p:blipFill>
          <a:blip r:embed="rId23"/>
          <a:srcRect l="26735" t="0" r="33523" b="0"/>
          <a:stretch/>
        </p:blipFill>
        <p:spPr>
          <a:xfrm>
            <a:off x="18973800" y="42609960"/>
            <a:ext cx="4622760" cy="12812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31" descr=""/>
          <p:cNvPicPr/>
          <p:nvPr/>
        </p:nvPicPr>
        <p:blipFill>
          <a:blip r:embed="rId24"/>
          <a:srcRect l="74543" t="0" r="0" b="0"/>
          <a:stretch/>
        </p:blipFill>
        <p:spPr>
          <a:xfrm>
            <a:off x="23622120" y="42671880"/>
            <a:ext cx="2819160" cy="12193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32" descr=""/>
          <p:cNvPicPr/>
          <p:nvPr/>
        </p:nvPicPr>
        <p:blipFill>
          <a:blip r:embed="rId25"/>
          <a:stretch/>
        </p:blipFill>
        <p:spPr>
          <a:xfrm>
            <a:off x="3733920" y="4157640"/>
            <a:ext cx="1676160" cy="23446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5" descr=""/>
          <p:cNvPicPr/>
          <p:nvPr/>
        </p:nvPicPr>
        <p:blipFill>
          <a:blip r:embed="rId26"/>
          <a:stretch/>
        </p:blipFill>
        <p:spPr>
          <a:xfrm>
            <a:off x="5867280" y="4157640"/>
            <a:ext cx="2521080" cy="22892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36" descr=""/>
          <p:cNvPicPr/>
          <p:nvPr/>
        </p:nvPicPr>
        <p:blipFill>
          <a:blip r:embed="rId27"/>
          <a:stretch/>
        </p:blipFill>
        <p:spPr>
          <a:xfrm>
            <a:off x="316080" y="4157640"/>
            <a:ext cx="288756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195640" y="5373720"/>
          <a:ext cx="4680000" cy="979560"/>
        </p:xfrm>
        <a:graphic>
          <a:graphicData uri="http://schemas.openxmlformats.org/drawingml/2006/table">
            <a:tbl>
              <a:tblPr/>
              <a:tblGrid>
                <a:gridCol w="1704960"/>
                <a:gridCol w="1373040"/>
                <a:gridCol w="1602000"/>
              </a:tblGrid>
              <a:tr h="326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effic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26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aflatox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8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ine aflatox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48" name="Rectangle 3"/>
          <p:cNvSpPr/>
          <p:nvPr/>
        </p:nvSpPr>
        <p:spPr>
          <a:xfrm>
            <a:off x="1692360" y="429264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Calibri"/>
              </a:rPr>
              <a:t>Coefficient of correlation between Food Aflatoxin (pg/ml) and urine aflatox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2268360" y="2637000"/>
          <a:ext cx="3672000" cy="1466640"/>
        </p:xfrm>
        <a:graphic>
          <a:graphicData uri="http://schemas.openxmlformats.org/drawingml/2006/table">
            <a:tbl>
              <a:tblPr/>
              <a:tblGrid>
                <a:gridCol w="1644840"/>
                <a:gridCol w="2027160"/>
              </a:tblGrid>
              <a:tr h="587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der nutrition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-Scores % below 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st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nt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weigh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0" name="TextBox 4"/>
          <p:cNvSpPr/>
          <p:nvPr/>
        </p:nvSpPr>
        <p:spPr>
          <a:xfrm>
            <a:off x="1692360" y="162864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Under nutrition status before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6572160" y="2284560"/>
            <a:ext cx="24814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NewRomanPSMT"/>
              </a:rPr>
              <a:t>According to </a:t>
            </a:r>
            <a:r>
              <a:rPr b="0" lang="en-IN" sz="1400" spc="-1" strike="noStrike">
                <a:solidFill>
                  <a:srgbClr val="000000"/>
                </a:solidFill>
                <a:latin typeface="Calibri"/>
                <a:ea typeface="MS Mincho"/>
              </a:rPr>
              <a:t>WHO classification, stunting rates above 20%, wasting rates above 5% and underweight rates above 10% are considered high and cause for alarm in any population (WHO, 2014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2" name=""/>
          <p:cNvGraphicFramePr/>
          <p:nvPr/>
        </p:nvGraphicFramePr>
        <p:xfrm>
          <a:off x="250920" y="2565360"/>
          <a:ext cx="8605800" cy="3587760"/>
        </p:xfrm>
        <a:graphic>
          <a:graphicData uri="http://schemas.openxmlformats.org/drawingml/2006/table">
            <a:tbl>
              <a:tblPr/>
              <a:tblGrid>
                <a:gridCol w="2363760"/>
                <a:gridCol w="2361960"/>
                <a:gridCol w="1317960"/>
                <a:gridCol w="1341360"/>
                <a:gridCol w="1220760"/>
              </a:tblGrid>
              <a:tr h="97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endent Variabl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ght-For-Age Z-Sc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effic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-stat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rowSpan="8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= 3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-squared= 0.00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-statistic= 5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-value= 0.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atment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5563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7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4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14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956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268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21 Dummy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156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6834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9900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2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323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3" name="Rectangle 2"/>
          <p:cNvSpPr/>
          <p:nvPr/>
        </p:nvSpPr>
        <p:spPr>
          <a:xfrm>
            <a:off x="755640" y="1700280"/>
            <a:ext cx="756144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Impacts of feeding trials on underweight: DID OLS Robust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684360" y="2301840"/>
          <a:ext cx="7991280" cy="3913200"/>
        </p:xfrm>
        <a:graphic>
          <a:graphicData uri="http://schemas.openxmlformats.org/drawingml/2006/table">
            <a:tbl>
              <a:tblPr/>
              <a:tblGrid>
                <a:gridCol w="2193840"/>
                <a:gridCol w="2195280"/>
                <a:gridCol w="1248120"/>
                <a:gridCol w="1247760"/>
                <a:gridCol w="1106280"/>
              </a:tblGrid>
              <a:tr h="1305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endent Variabl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ght-for-Height Z-Sc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effic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-stat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rowSpan="8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= 3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-squared= 0.03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-statistic= 2.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-value= 0.00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atment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2247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7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793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14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268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21 Dummy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18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344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235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2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939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193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5" name="Rectangle 1"/>
          <p:cNvSpPr/>
          <p:nvPr/>
        </p:nvSpPr>
        <p:spPr>
          <a:xfrm>
            <a:off x="723240" y="1487520"/>
            <a:ext cx="815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feeding trials on wasting: DID OLS Robust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4"/>
          <p:cNvSpPr/>
          <p:nvPr/>
        </p:nvSpPr>
        <p:spPr>
          <a:xfrm>
            <a:off x="108000" y="1197000"/>
            <a:ext cx="8496360" cy="54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S Mincho"/>
              </a:rPr>
              <a:t>Conclus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200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Mincho"/>
              </a:rPr>
              <a:t>A randomized controlled trial and difference-in-difference regression revealed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MS Mincho"/>
              </a:rPr>
              <a:t>significant improvement in health outcome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Mincho"/>
              </a:rPr>
              <a:t>within 21 days by virtue of the comprehensive training implemented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200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Calibri"/>
                <a:ea typeface="MS Mincho"/>
              </a:rPr>
              <a:t>The article presented the first result on </a:t>
            </a:r>
            <a:r>
              <a:rPr b="1" lang="en-IN" sz="1600" spc="-1" strike="noStrike">
                <a:solidFill>
                  <a:srgbClr val="000000"/>
                </a:solidFill>
                <a:latin typeface="Calibri"/>
                <a:ea typeface="MS Mincho"/>
              </a:rPr>
              <a:t>aflatoxin assay of children’s urine in Tanzania with high correlation with aflatoxin in food ingredients </a:t>
            </a:r>
            <a:r>
              <a:rPr b="0" lang="en-IN" sz="1600" spc="-1" strike="noStrike">
                <a:solidFill>
                  <a:srgbClr val="000000"/>
                </a:solidFill>
                <a:latin typeface="Calibri"/>
                <a:ea typeface="MS Mincho"/>
              </a:rPr>
              <a:t>that they consum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200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rect observation of the immediate outcome will convince mothers to maintain the good practices that are affordable in the communiti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200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urther elicitation and incorporation of local preferences and tastes would help guarantee sustainable adop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83808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Team: Core implemen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Picture 32" descr=""/>
          <p:cNvPicPr/>
          <p:nvPr/>
        </p:nvPicPr>
        <p:blipFill>
          <a:blip r:embed="rId1"/>
          <a:stretch/>
        </p:blipFill>
        <p:spPr>
          <a:xfrm>
            <a:off x="4876920" y="3124080"/>
            <a:ext cx="4221000" cy="5922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33" descr="E:\zReturn to desktop\ICRAF logo.png"/>
          <p:cNvPicPr/>
          <p:nvPr/>
        </p:nvPicPr>
        <p:blipFill>
          <a:blip r:embed="rId2"/>
          <a:stretch/>
        </p:blipFill>
        <p:spPr>
          <a:xfrm>
            <a:off x="457200" y="2743200"/>
            <a:ext cx="1220760" cy="9907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34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35" descr=""/>
          <p:cNvPicPr/>
          <p:nvPr/>
        </p:nvPicPr>
        <p:blipFill>
          <a:blip r:embed="rId4"/>
          <a:stretch/>
        </p:blipFill>
        <p:spPr>
          <a:xfrm>
            <a:off x="3429000" y="3429000"/>
            <a:ext cx="836640" cy="8240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6" descr=""/>
          <p:cNvPicPr/>
          <p:nvPr/>
        </p:nvPicPr>
        <p:blipFill>
          <a:blip r:embed="rId5"/>
          <a:stretch/>
        </p:blipFill>
        <p:spPr>
          <a:xfrm>
            <a:off x="304920" y="3962520"/>
            <a:ext cx="1509480" cy="10620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7" descr="P:\logos\i\iita\IITA_regular-sienna_with slogan (2).JPG"/>
          <p:cNvPicPr/>
          <p:nvPr/>
        </p:nvPicPr>
        <p:blipFill>
          <a:blip r:embed="rId6"/>
          <a:stretch/>
        </p:blipFill>
        <p:spPr>
          <a:xfrm>
            <a:off x="5715000" y="4495680"/>
            <a:ext cx="1069920" cy="5367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4" descr=""/>
          <p:cNvPicPr/>
          <p:nvPr/>
        </p:nvPicPr>
        <p:blipFill>
          <a:blip r:embed="rId7"/>
          <a:stretch/>
        </p:blipFill>
        <p:spPr>
          <a:xfrm>
            <a:off x="1752480" y="5791320"/>
            <a:ext cx="5848560" cy="6667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46" descr=""/>
          <p:cNvPicPr/>
          <p:nvPr/>
        </p:nvPicPr>
        <p:blipFill>
          <a:blip r:embed="rId8"/>
          <a:stretch/>
        </p:blipFill>
        <p:spPr>
          <a:xfrm>
            <a:off x="3429000" y="4572000"/>
            <a:ext cx="78264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3"/>
          <p:cNvSpPr/>
          <p:nvPr/>
        </p:nvSpPr>
        <p:spPr>
          <a:xfrm>
            <a:off x="6270480" y="0"/>
            <a:ext cx="2886120" cy="68706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Rectangle 5"/>
          <p:cNvSpPr/>
          <p:nvPr/>
        </p:nvSpPr>
        <p:spPr>
          <a:xfrm>
            <a:off x="0" y="0"/>
            <a:ext cx="179280" cy="402912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8"/>
          <p:cNvSpPr/>
          <p:nvPr/>
        </p:nvSpPr>
        <p:spPr>
          <a:xfrm>
            <a:off x="2340000" y="3789360"/>
            <a:ext cx="0" cy="979560"/>
          </a:xfrm>
          <a:prstGeom prst="line">
            <a:avLst/>
          </a:prstGeom>
          <a:ln w="25560">
            <a:solidFill>
              <a:srgbClr val="f68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3"/>
          <p:cNvSpPr/>
          <p:nvPr/>
        </p:nvSpPr>
        <p:spPr>
          <a:xfrm>
            <a:off x="2340000" y="393372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3200" spc="-1" strike="noStrike">
                <a:solidFill>
                  <a:srgbClr val="225c29"/>
                </a:solidFill>
                <a:latin typeface="Calibri"/>
                <a:ea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0" name="Group 16"/>
          <p:cNvGrpSpPr/>
          <p:nvPr/>
        </p:nvGrpSpPr>
        <p:grpSpPr>
          <a:xfrm>
            <a:off x="108000" y="6105600"/>
            <a:ext cx="4757760" cy="598320"/>
            <a:chOff x="108000" y="6105600"/>
            <a:chExt cx="4757760" cy="598320"/>
          </a:xfrm>
        </p:grpSpPr>
        <p:sp>
          <p:nvSpPr>
            <p:cNvPr id="671" name="Rectangle 17"/>
            <p:cNvSpPr/>
            <p:nvPr/>
          </p:nvSpPr>
          <p:spPr>
            <a:xfrm>
              <a:off x="108000" y="6105600"/>
              <a:ext cx="4757760" cy="59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2" name="Picture 3" descr="D:\Jobs 2013\ID and Visiting cards\ICRISAT-Logo-Extended Green.png"/>
            <p:cNvPicPr/>
            <p:nvPr/>
          </p:nvPicPr>
          <p:blipFill>
            <a:blip r:embed="rId1"/>
            <a:stretch/>
          </p:blipFill>
          <p:spPr>
            <a:xfrm>
              <a:off x="215640" y="6166440"/>
              <a:ext cx="4542120" cy="46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3" name="Picture 7" descr="D:\Jobs 2013\ID and Visiting cards\Covers\G1.png"/>
          <p:cNvPicPr/>
          <p:nvPr/>
        </p:nvPicPr>
        <p:blipFill>
          <a:blip r:embed="rId2"/>
          <a:stretch/>
        </p:blipFill>
        <p:spPr>
          <a:xfrm>
            <a:off x="5886360" y="4559400"/>
            <a:ext cx="939960" cy="16063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2" descr=""/>
          <p:cNvPicPr/>
          <p:nvPr/>
        </p:nvPicPr>
        <p:blipFill>
          <a:blip r:embed="rId3"/>
          <a:srcRect l="0" t="0" r="0" b="-115"/>
          <a:stretch/>
        </p:blipFill>
        <p:spPr>
          <a:xfrm>
            <a:off x="2185920" y="5048280"/>
            <a:ext cx="2260800" cy="892080"/>
          </a:xfrm>
          <a:prstGeom prst="rect">
            <a:avLst/>
          </a:prstGeom>
          <a:ln w="0">
            <a:noFill/>
          </a:ln>
        </p:spPr>
      </p:pic>
      <p:sp>
        <p:nvSpPr>
          <p:cNvPr id="675" name="TextBox 14"/>
          <p:cNvSpPr/>
          <p:nvPr/>
        </p:nvSpPr>
        <p:spPr>
          <a:xfrm>
            <a:off x="1740240" y="5892840"/>
            <a:ext cx="317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225c29"/>
                </a:solidFill>
                <a:latin typeface="Arial"/>
              </a:rPr>
              <a:t>ICRISAT is a member of the CGIAR Consortiu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16622640" y="41844960"/>
            <a:ext cx="1981440" cy="2111040"/>
            <a:chOff x="16622640" y="41844960"/>
            <a:chExt cx="1981440" cy="2111040"/>
          </a:xfrm>
        </p:grpSpPr>
        <p:pic>
          <p:nvPicPr>
            <p:cNvPr id="599" name="Picture 7" descr="\\nas\mmu\1Publishing_service\Logos\CGIAR logo\cgiar.tif"/>
            <p:cNvPicPr/>
            <p:nvPr/>
          </p:nvPicPr>
          <p:blipFill>
            <a:blip r:embed="rId1"/>
            <a:stretch/>
          </p:blipFill>
          <p:spPr>
            <a:xfrm>
              <a:off x="16622640" y="41844960"/>
              <a:ext cx="190656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4"/>
            <p:cNvSpPr/>
            <p:nvPr/>
          </p:nvSpPr>
          <p:spPr>
            <a:xfrm>
              <a:off x="16788960" y="43313400"/>
              <a:ext cx="181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1" name="Picture 5" descr=""/>
          <p:cNvPicPr/>
          <p:nvPr/>
        </p:nvPicPr>
        <p:blipFill>
          <a:blip r:embed="rId2"/>
          <a:stretch/>
        </p:blipFill>
        <p:spPr>
          <a:xfrm>
            <a:off x="9764640" y="418338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6" descr=""/>
          <p:cNvPicPr/>
          <p:nvPr/>
        </p:nvPicPr>
        <p:blipFill>
          <a:blip r:embed="rId3"/>
          <a:stretch/>
        </p:blipFill>
        <p:spPr>
          <a:xfrm>
            <a:off x="11160" y="42291000"/>
            <a:ext cx="7724880" cy="1082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"/>
          <p:cNvPicPr/>
          <p:nvPr/>
        </p:nvPicPr>
        <p:blipFill>
          <a:blip r:embed="rId4"/>
          <a:stretch/>
        </p:blipFill>
        <p:spPr>
          <a:xfrm>
            <a:off x="11822040" y="4183380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" descr="E:\zReturn to desktop\ICRAF logo.png"/>
          <p:cNvPicPr/>
          <p:nvPr/>
        </p:nvPicPr>
        <p:blipFill>
          <a:blip r:embed="rId5"/>
          <a:stretch/>
        </p:blipFill>
        <p:spPr>
          <a:xfrm>
            <a:off x="7478640" y="41910120"/>
            <a:ext cx="2347920" cy="19047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"/>
          <p:cNvPicPr/>
          <p:nvPr/>
        </p:nvPicPr>
        <p:blipFill>
          <a:blip r:embed="rId6"/>
          <a:stretch/>
        </p:blipFill>
        <p:spPr>
          <a:xfrm>
            <a:off x="13955760" y="41757480"/>
            <a:ext cx="2424240" cy="17067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0" descr=""/>
          <p:cNvPicPr/>
          <p:nvPr/>
        </p:nvPicPr>
        <p:blipFill>
          <a:blip r:embed="rId7"/>
          <a:srcRect l="26735" t="0" r="33523" b="0"/>
          <a:stretch/>
        </p:blipFill>
        <p:spPr>
          <a:xfrm>
            <a:off x="18668880" y="42305400"/>
            <a:ext cx="4622760" cy="12808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1" descr=""/>
          <p:cNvPicPr/>
          <p:nvPr/>
        </p:nvPicPr>
        <p:blipFill>
          <a:blip r:embed="rId8"/>
          <a:srcRect l="74543" t="0" r="0" b="0"/>
          <a:stretch/>
        </p:blipFill>
        <p:spPr>
          <a:xfrm>
            <a:off x="23317200" y="42367320"/>
            <a:ext cx="2819520" cy="1218960"/>
          </a:xfrm>
          <a:prstGeom prst="rect">
            <a:avLst/>
          </a:prstGeom>
          <a:ln w="0">
            <a:noFill/>
          </a:ln>
        </p:spPr>
      </p:pic>
      <p:grpSp>
        <p:nvGrpSpPr>
          <p:cNvPr id="608" name="Group 12"/>
          <p:cNvGrpSpPr/>
          <p:nvPr/>
        </p:nvGrpSpPr>
        <p:grpSpPr>
          <a:xfrm>
            <a:off x="16775280" y="41997240"/>
            <a:ext cx="1981080" cy="2111040"/>
            <a:chOff x="16775280" y="41997240"/>
            <a:chExt cx="1981080" cy="2111040"/>
          </a:xfrm>
        </p:grpSpPr>
        <p:pic>
          <p:nvPicPr>
            <p:cNvPr id="609" name="Picture 7" descr="\\nas\mmu\1Publishing_service\Logos\CGIAR logo\cgiar.tif"/>
            <p:cNvPicPr/>
            <p:nvPr/>
          </p:nvPicPr>
          <p:blipFill>
            <a:blip r:embed="rId9"/>
            <a:stretch/>
          </p:blipFill>
          <p:spPr>
            <a:xfrm>
              <a:off x="16775280" y="41997240"/>
              <a:ext cx="190620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TextBox 14"/>
            <p:cNvSpPr/>
            <p:nvPr/>
          </p:nvSpPr>
          <p:spPr>
            <a:xfrm>
              <a:off x="16941600" y="43465680"/>
              <a:ext cx="18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1" name="Picture 15" descr=""/>
          <p:cNvPicPr/>
          <p:nvPr/>
        </p:nvPicPr>
        <p:blipFill>
          <a:blip r:embed="rId10"/>
          <a:stretch/>
        </p:blipFill>
        <p:spPr>
          <a:xfrm>
            <a:off x="9917280" y="419860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6" descr=""/>
          <p:cNvPicPr/>
          <p:nvPr/>
        </p:nvPicPr>
        <p:blipFill>
          <a:blip r:embed="rId11"/>
          <a:stretch/>
        </p:blipFill>
        <p:spPr>
          <a:xfrm>
            <a:off x="163440" y="42443280"/>
            <a:ext cx="7724880" cy="10828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"/>
          <p:cNvPicPr/>
          <p:nvPr/>
        </p:nvPicPr>
        <p:blipFill>
          <a:blip r:embed="rId12"/>
          <a:stretch/>
        </p:blipFill>
        <p:spPr>
          <a:xfrm>
            <a:off x="11974680" y="4198608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" descr="E:\zReturn to desktop\ICRAF logo.png"/>
          <p:cNvPicPr/>
          <p:nvPr/>
        </p:nvPicPr>
        <p:blipFill>
          <a:blip r:embed="rId13"/>
          <a:stretch/>
        </p:blipFill>
        <p:spPr>
          <a:xfrm>
            <a:off x="7631280" y="42062400"/>
            <a:ext cx="2347920" cy="19051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9" descr=""/>
          <p:cNvPicPr/>
          <p:nvPr/>
        </p:nvPicPr>
        <p:blipFill>
          <a:blip r:embed="rId14"/>
          <a:stretch/>
        </p:blipFill>
        <p:spPr>
          <a:xfrm>
            <a:off x="14108040" y="41910120"/>
            <a:ext cx="2424240" cy="17064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0" descr=""/>
          <p:cNvPicPr/>
          <p:nvPr/>
        </p:nvPicPr>
        <p:blipFill>
          <a:blip r:embed="rId15"/>
          <a:srcRect l="26735" t="0" r="33523" b="0"/>
          <a:stretch/>
        </p:blipFill>
        <p:spPr>
          <a:xfrm>
            <a:off x="18821520" y="42457680"/>
            <a:ext cx="4622760" cy="12812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21" descr=""/>
          <p:cNvPicPr/>
          <p:nvPr/>
        </p:nvPicPr>
        <p:blipFill>
          <a:blip r:embed="rId16"/>
          <a:srcRect l="74543" t="0" r="0" b="0"/>
          <a:stretch/>
        </p:blipFill>
        <p:spPr>
          <a:xfrm>
            <a:off x="23469480" y="42519600"/>
            <a:ext cx="28195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618" name="Group 22"/>
          <p:cNvGrpSpPr/>
          <p:nvPr/>
        </p:nvGrpSpPr>
        <p:grpSpPr>
          <a:xfrm>
            <a:off x="16927560" y="42149880"/>
            <a:ext cx="1981080" cy="2111040"/>
            <a:chOff x="16927560" y="42149880"/>
            <a:chExt cx="1981080" cy="2111040"/>
          </a:xfrm>
        </p:grpSpPr>
        <p:pic>
          <p:nvPicPr>
            <p:cNvPr id="619" name="Picture 7" descr="\\nas\mmu\1Publishing_service\Logos\CGIAR logo\cgiar.tif"/>
            <p:cNvPicPr/>
            <p:nvPr/>
          </p:nvPicPr>
          <p:blipFill>
            <a:blip r:embed="rId17"/>
            <a:stretch/>
          </p:blipFill>
          <p:spPr>
            <a:xfrm>
              <a:off x="16927560" y="42149880"/>
              <a:ext cx="190620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TextBox 24"/>
            <p:cNvSpPr/>
            <p:nvPr/>
          </p:nvSpPr>
          <p:spPr>
            <a:xfrm>
              <a:off x="17093880" y="43618320"/>
              <a:ext cx="18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21" name="Picture 25" descr=""/>
          <p:cNvPicPr/>
          <p:nvPr/>
        </p:nvPicPr>
        <p:blipFill>
          <a:blip r:embed="rId18"/>
          <a:stretch/>
        </p:blipFill>
        <p:spPr>
          <a:xfrm>
            <a:off x="10069560" y="42138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6" descr=""/>
          <p:cNvPicPr/>
          <p:nvPr/>
        </p:nvPicPr>
        <p:blipFill>
          <a:blip r:embed="rId19"/>
          <a:stretch/>
        </p:blipFill>
        <p:spPr>
          <a:xfrm>
            <a:off x="316080" y="42595920"/>
            <a:ext cx="7724520" cy="10825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" descr=""/>
          <p:cNvPicPr/>
          <p:nvPr/>
        </p:nvPicPr>
        <p:blipFill>
          <a:blip r:embed="rId20"/>
          <a:stretch/>
        </p:blipFill>
        <p:spPr>
          <a:xfrm>
            <a:off x="12126960" y="4213872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" descr="E:\zReturn to desktop\ICRAF logo.png"/>
          <p:cNvPicPr/>
          <p:nvPr/>
        </p:nvPicPr>
        <p:blipFill>
          <a:blip r:embed="rId21"/>
          <a:stretch/>
        </p:blipFill>
        <p:spPr>
          <a:xfrm>
            <a:off x="7783560" y="42214680"/>
            <a:ext cx="2347920" cy="19051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9" descr=""/>
          <p:cNvPicPr/>
          <p:nvPr/>
        </p:nvPicPr>
        <p:blipFill>
          <a:blip r:embed="rId22"/>
          <a:stretch/>
        </p:blipFill>
        <p:spPr>
          <a:xfrm>
            <a:off x="14260680" y="42062400"/>
            <a:ext cx="2423880" cy="17064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0" descr=""/>
          <p:cNvPicPr/>
          <p:nvPr/>
        </p:nvPicPr>
        <p:blipFill>
          <a:blip r:embed="rId23"/>
          <a:srcRect l="26735" t="0" r="33523" b="0"/>
          <a:stretch/>
        </p:blipFill>
        <p:spPr>
          <a:xfrm>
            <a:off x="18973800" y="42609960"/>
            <a:ext cx="4622760" cy="12812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31" descr=""/>
          <p:cNvPicPr/>
          <p:nvPr/>
        </p:nvPicPr>
        <p:blipFill>
          <a:blip r:embed="rId24"/>
          <a:srcRect l="74543" t="0" r="0" b="0"/>
          <a:stretch/>
        </p:blipFill>
        <p:spPr>
          <a:xfrm>
            <a:off x="23622120" y="42671880"/>
            <a:ext cx="281916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8" name=""/>
          <p:cNvGraphicFramePr/>
          <p:nvPr/>
        </p:nvGraphicFramePr>
        <p:xfrm>
          <a:off x="163440" y="4346640"/>
          <a:ext cx="4919760" cy="2636640"/>
        </p:xfrm>
        <a:graphic>
          <a:graphicData uri="http://schemas.openxmlformats.org/drawingml/2006/table">
            <a:tbl>
              <a:tblPr/>
              <a:tblGrid>
                <a:gridCol w="1397160"/>
                <a:gridCol w="3522600"/>
              </a:tblGrid>
              <a:tr h="881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ll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f aflatoxigenic A.flavus in soil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it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 (45/5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jo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(35/4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l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(22/4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ik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 (10/2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le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(10/2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629" name="Picture 2" descr="C:\Users\anitha\Desktop\Af_logCFU_Dodoma_2014 (3).jpg"/>
          <p:cNvPicPr/>
          <p:nvPr/>
        </p:nvPicPr>
        <p:blipFill>
          <a:blip r:embed="rId25"/>
          <a:stretch/>
        </p:blipFill>
        <p:spPr>
          <a:xfrm>
            <a:off x="0" y="1341360"/>
            <a:ext cx="3267000" cy="26924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4" descr=""/>
          <p:cNvPicPr/>
          <p:nvPr/>
        </p:nvPicPr>
        <p:blipFill>
          <a:blip r:embed="rId26"/>
          <a:stretch/>
        </p:blipFill>
        <p:spPr>
          <a:xfrm>
            <a:off x="3473280" y="1820880"/>
            <a:ext cx="2232360" cy="18241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8" descr=""/>
          <p:cNvPicPr/>
          <p:nvPr/>
        </p:nvPicPr>
        <p:blipFill>
          <a:blip r:embed="rId27"/>
          <a:stretch/>
        </p:blipFill>
        <p:spPr>
          <a:xfrm>
            <a:off x="5224320" y="3645000"/>
            <a:ext cx="3733920" cy="2361960"/>
          </a:xfrm>
          <a:prstGeom prst="rect">
            <a:avLst/>
          </a:prstGeom>
          <a:ln w="0">
            <a:noFill/>
          </a:ln>
        </p:spPr>
      </p:pic>
      <p:sp>
        <p:nvSpPr>
          <p:cNvPr id="632" name="TextBox 39"/>
          <p:cNvSpPr/>
          <p:nvPr/>
        </p:nvSpPr>
        <p:spPr>
          <a:xfrm>
            <a:off x="6021360" y="2225520"/>
            <a:ext cx="198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1800" spc="-1" strike="noStrike">
                <a:solidFill>
                  <a:srgbClr val="000000"/>
                </a:solidFill>
                <a:latin typeface="Calibri"/>
              </a:rPr>
              <a:t>Aspergillus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recovery from Bamabaran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40"/>
          <p:cNvSpPr/>
          <p:nvPr/>
        </p:nvSpPr>
        <p:spPr>
          <a:xfrm>
            <a:off x="5845320" y="6083280"/>
            <a:ext cx="32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xigenic isolate fluorescing on coconut aga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33"/>
          <p:cNvSpPr/>
          <p:nvPr/>
        </p:nvSpPr>
        <p:spPr>
          <a:xfrm>
            <a:off x="3076560" y="946080"/>
            <a:ext cx="58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Mapping aflatoxin conta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5" name=""/>
          <p:cNvGraphicFramePr/>
          <p:nvPr/>
        </p:nvGraphicFramePr>
        <p:xfrm>
          <a:off x="324000" y="1446120"/>
          <a:ext cx="8132760" cy="4767480"/>
        </p:xfrm>
        <a:graphic>
          <a:graphicData uri="http://schemas.openxmlformats.org/drawingml/2006/table">
            <a:tbl>
              <a:tblPr/>
              <a:tblGrid>
                <a:gridCol w="1627200"/>
                <a:gridCol w="1625400"/>
                <a:gridCol w="1627200"/>
                <a:gridCol w="1625760"/>
                <a:gridCol w="1627200"/>
              </a:tblGrid>
              <a:tr h="84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eld and freshly harvested samp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samples tested in 2012-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f samples having &gt;20 ppb toxi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samples tested in 2013-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f samples having &gt;20 ppb toxi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281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mbara n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fl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rgh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84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rage s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samples tested in 2012-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uency of samples having &gt;20 ppb toxi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samples tested in 2013-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uency of samples having &gt;20 ppb toxi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mbara n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fl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rgh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.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6" name="TextBox 1"/>
          <p:cNvSpPr/>
          <p:nvPr/>
        </p:nvSpPr>
        <p:spPr>
          <a:xfrm>
            <a:off x="2484360" y="105264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Calibri"/>
              </a:rPr>
              <a:t>Aflatoxin contamination in fresh and storage cro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31680" y="6237360"/>
            <a:ext cx="9137880" cy="10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. Anitha, W. Munthali, H. Msere, E. Swai, E. Sichone, A. Rathore, and P. Okori . Prevalence of aflatoxin in diverse cropping system and its management in central Tanzania. Submitted to crop protection jour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8" name=""/>
          <p:cNvGraphicFramePr/>
          <p:nvPr/>
        </p:nvGraphicFramePr>
        <p:xfrm>
          <a:off x="272880" y="1558800"/>
          <a:ext cx="8544240" cy="4767480"/>
        </p:xfrm>
        <a:graphic>
          <a:graphicData uri="http://schemas.openxmlformats.org/drawingml/2006/table">
            <a:tbl>
              <a:tblPr/>
              <a:tblGrid>
                <a:gridCol w="6674040"/>
                <a:gridCol w="1870200"/>
              </a:tblGrid>
              <a:tr h="84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rvey after the post-harvest  management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60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latoxin awareness among farmers attended train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rmers grading their g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1401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teria for grading g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rotten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plump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col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reason for drying the g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reduce mois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st as a traditional 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rmers awareness and practice on proper drying, grading and storage of grains to reduce aflatoxin in g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9" name="TextBox 2"/>
          <p:cNvSpPr/>
          <p:nvPr/>
        </p:nvSpPr>
        <p:spPr>
          <a:xfrm>
            <a:off x="2701800" y="90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Impact of tra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4"/>
          <p:cNvSpPr/>
          <p:nvPr/>
        </p:nvSpPr>
        <p:spPr>
          <a:xfrm>
            <a:off x="250920" y="2781360"/>
            <a:ext cx="8353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Maize porridge is a major complementary food for children less than 1000 day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Pigeonpea produced is for tradin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Low quality of staple grains  (aflatoxin contamination). Th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ildren are exposed with mean AFM1 level of 122 pg ml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urin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ss knowledge on importance of nutrition content in daily foo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ss involvement of men in household activities including feeding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nsive 21 days learning by doing proces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ntification of impact on underweight, wasting and stuntin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1"/>
          <p:cNvSpPr/>
          <p:nvPr/>
        </p:nvSpPr>
        <p:spPr>
          <a:xfrm>
            <a:off x="611280" y="1773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Baseline to understand current practice on utilization of cereals and legumes followed by training (PDH mod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1"/>
          <p:cNvSpPr/>
          <p:nvPr/>
        </p:nvSpPr>
        <p:spPr>
          <a:xfrm>
            <a:off x="11160" y="1628640"/>
            <a:ext cx="9144000" cy="50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Aft>
                <a:spcPts val="799"/>
              </a:spcAft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MS Mincho"/>
              </a:rPr>
              <a:t>The effect of legumes cereal based complementary diet, reduced aflatoxin exposure and improved hygiene practices on wasting and underweight status of children in Central Tanz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Aft>
                <a:spcPts val="799"/>
              </a:spcAft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Calibri"/>
                <a:ea typeface="MS Mincho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Anitha Seeth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Yasinta Muzanil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MS Mincho"/>
              </a:rPr>
              <a:t>Taku W. Tsusaka</a:t>
            </a:r>
            <a:r>
              <a:rPr b="0" lang="en-IN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Emmanuel S Monyo</a:t>
            </a:r>
            <a:r>
              <a:rPr b="0" lang="en-IN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3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Lizzie Kachulu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 Mike Musok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and Patrick Okor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MS Mincho"/>
              </a:rPr>
              <a:t>International Crops Research Institute for the Semi-Arid Tropics (ICRISAT), P.O Box 1096 Lilongwe, Malaw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2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MS Mincho"/>
              </a:rPr>
              <a:t>Sokoine University of Agriculture (SUA), P.O Box 3000, Chuo Kikuu, Morogoro, Tanz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3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MS Mincho"/>
              </a:rPr>
              <a:t>International Crops Research Institute for the Semi-Arid Tropics (ICRISAT), P.O.Box</a:t>
            </a:r>
            <a:r>
              <a:rPr b="0" lang="en-US" sz="1200" spc="-1" strike="noStrike">
                <a:solidFill>
                  <a:srgbClr val="581d92"/>
                </a:solidFill>
                <a:latin typeface="Calibri"/>
                <a:ea typeface="MS Mincho"/>
              </a:rPr>
              <a:t>,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MS Mincho"/>
              </a:rPr>
              <a:t>39063, Nairobi Ke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spcAft>
                <a:spcPts val="799"/>
              </a:spcAft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684360" y="1484280"/>
            <a:ext cx="7416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MS Mincho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MS Mincho"/>
              </a:rPr>
              <a:t>At national level, stunting or chronic malnutrition was estimated as 35% of children between 0-59 months age which is though fell from 42 % between 2010 and 2014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NewRomanPSMT"/>
              </a:rPr>
              <a:t>According to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MS Mincho"/>
              </a:rPr>
              <a:t>WHO classification, stunting rates above 20%, wasting rates above 5% and underweight rates above 10% are considered high and cause for alarm in any population (WHO, 2014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Wasting, stunting and underweight are the three elements of undernutrition. </a:t>
            </a:r>
            <a:r>
              <a:rPr b="1" lang="en-IN" sz="2000" spc="-1" strike="noStrike">
                <a:solidFill>
                  <a:srgbClr val="000000"/>
                </a:solidFill>
                <a:latin typeface="Calibri"/>
              </a:rPr>
              <a:t>The causes for undernutrition is multifactori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The current study focused 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Dietary diversification using locally produced affordable foo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Water, sanitation and hygiene (WASH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Food safety management, specifically aflatoxin contro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Box 2"/>
          <p:cNvSpPr/>
          <p:nvPr/>
        </p:nvSpPr>
        <p:spPr>
          <a:xfrm>
            <a:off x="539640" y="1413000"/>
            <a:ext cx="691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alibri"/>
              </a:rPr>
              <a:t>Baseline Survey with anthropometry measurement, crop sample analysis and urine sample analysis for aflatox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alibri"/>
              </a:rPr>
              <a:t>Training – Positive deviance hearth model (CORE,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difference-in-difference (DID) is a capable tool to estimate treatment effects by systematically comparing the pre- and post-treatment differences in the outcome between a treatment group and a control grou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5" name=""/>
          <p:cNvGraphicFramePr/>
          <p:nvPr/>
        </p:nvGraphicFramePr>
        <p:xfrm>
          <a:off x="395280" y="2349360"/>
          <a:ext cx="8424720" cy="3011760"/>
        </p:xfrm>
        <a:graphic>
          <a:graphicData uri="http://schemas.openxmlformats.org/drawingml/2006/table">
            <a:tbl>
              <a:tblPr/>
              <a:tblGrid>
                <a:gridCol w="4834080"/>
                <a:gridCol w="3590640"/>
              </a:tblGrid>
              <a:tr h="765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ue, number of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ge in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lusively breast fed (EBF)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69.1%), 87, &lt;6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etary diversity score, mean (S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0 (1.1),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minimum dietary score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 %, 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l frequency, mean (S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1 (0.96),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minimum meal frequency (MMF)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3.7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,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minimum acceptable diet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8.4 %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6" name="TextBox 1"/>
          <p:cNvSpPr/>
          <p:nvPr/>
        </p:nvSpPr>
        <p:spPr>
          <a:xfrm>
            <a:off x="395280" y="14842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Calibri"/>
              </a:rPr>
              <a:t>Result: Dietary diversification and  IYCF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0:22:54Z</dcterms:created>
  <dc:creator>Vengala Reddy, Ch (ICRISAT-IN)</dc:creator>
  <dc:description/>
  <dc:language>en-US</dc:language>
  <cp:lastModifiedBy>ANITHA SEETHA</cp:lastModifiedBy>
  <dcterms:modified xsi:type="dcterms:W3CDTF">2016-06-30T06:41:49Z</dcterms:modified>
  <cp:revision>2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9000000000001023620</vt:lpwstr>
  </property>
</Properties>
</file>